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6FC0-9F69-4F3F-A1AB-D0C38BB64E4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202-EEBA-475A-AEE6-AEE6D077051A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1D1-038B-4F02-958B-11544057697F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18E-9863-466B-9DDD-39276E3FC9F4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5F9-9EA9-4A8C-9E20-231995E6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5FE-FB2D-4E93-AE33-B10EF405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01B-4328-4B47-9310-DBD3E2C6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4F2-CB98-4EC4-8004-BDFBB4AA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96D-2262-4718-8A09-9564B3A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147-C54B-4CE4-821A-59252DE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603-A30A-4377-AACE-48B9812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EC7-5F9E-4B00-8A3A-0390492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ADF-04FF-466C-9978-2968760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F95-ED54-4F70-8E10-55ABDA4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767-C84F-4756-A153-D0BEECC9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012-2D24-4FE2-91A4-2781A73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479-83CE-4577-A977-D6CD0737B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4"/>
          <a:stretch/>
        </p:blipFill>
        <p:spPr>
          <a:xfrm>
            <a:off x="369720" y="11592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2340000" y="2746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4"/>
          <a:stretch/>
        </p:blipFill>
        <p:spPr>
          <a:xfrm>
            <a:off x="250920" y="217440"/>
            <a:ext cx="1958760" cy="4572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96840" y="577800"/>
            <a:ext cx="2549520" cy="106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685800" y="714240"/>
            <a:ext cx="1959120" cy="45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5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4"/>
          <a:stretch/>
        </p:blipFill>
        <p:spPr>
          <a:xfrm>
            <a:off x="7147080" y="115920"/>
            <a:ext cx="1958760" cy="458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tdeleirr@abv.b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143160"/>
                <a:tab algn="l" pos="6286680"/>
                <a:tab algn="l" pos="942984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SEE/B/0028/1.3/X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ИНФОРМАЦИОНЕН    Д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ПАЗАРДЖИК, 29.05.2012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Цели на проекта: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Създаване на подходящи механизми за подпомагане обмена и координирането на научно-изследователския и технологичния подход и политиките в областта на производството на храни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Повишаване на обществената информираност относно значението на технологичния прогрес и иновациите в областта на производството на храни в зоната на Югоизточ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Aнализ и сравнение на съществуващи политики, планове и инициативи за иновации в производството на храни в участващите регио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SWOT анализ за иновациите в производството на храни в участващите регио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Оперативни планове за научни разработки и иноваци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зследване на потенциала за инвестиране в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ониторингов механизъм за проследяване на иновациите в производството на х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База данни с профилите на приблизително 250 научни звена и с технологичните нужди на 400 предприятия за храни, която да служи за подобряване на сътрудничеството между тях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редложения за актуализиране на съществуващи учебни програми в отговор на сегашните тенденции в областта на иновациите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нформационно-технологичен инструментариум, предназначен за студенти и учени в областта на науките за храните;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 (3)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еморандум за разбирателство и мрежа от заинтересовани страни и лица, отговорни за вземане на решения за развитието на транснационалната система за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Работа в мрежи и обмен между индустрията и нау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ните звена с цел развиване на транснационалното сътрудничество за иновации в производството на хра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чаквани резултати (4)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Обучени участници в областта на иновациите в производството на храни и финансирането на научни разработки;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Научно-изследователски кадри от всички партньори ще бъдат обучени на място по теми относно иновациите в производството на хра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- Food SEE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и поставя за цел да бъде катализатор за иновациите в участващите страни и да бъде успешен пример, който да бъде последван и в други производствени и научно-изследователски сектори; методологията и резултатите ще бъдат предадени да могат да бъдат използвани и на европейско равнищ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Завършени дейности по проекта от ОА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1. – Изготвен Анализ и картиране на политики, планове и инициативи, свързани с иновации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2. – Извършена оценка на технологичните нужди на 50 фирми от хранителния сектор на база на попълнени въпросници по проекта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по дейност 3.3. изготвен SWOT анализ за иновациите в производството на 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Calibri"/>
              </a:rPr>
              <a:t>БЛАГОДАРЯ ЗА ВНИМАНИЕТО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Гергана Калоя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Тел.034/40 00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-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tdeleirr@abv.bg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9581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е финансиран по Оперативна програма за транснационално сътрудничество “Югоизточна Европа” 2007 – 2013 година</a:t>
            </a:r>
            <a:br>
              <a:rPr sz="3200"/>
            </a:b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бщ бюджет на проекта – 1 682 245 евро</a:t>
            </a: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Бюджет на ОА – 90 000 евро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Начало на проекта 03.2011 г.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дължителност – 30 мес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39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: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Водещ партньор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Център за изследвания и технологии Hellas, Институт по агробиотехнологии (EKETA- INA) Гърция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Федерация на индустриите на Северна Гърция, (SVVE) Гърц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зследователски съвет – Институт по науки за храни, (CNR/ISPA ) Итал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рарен университет Пловдив (AU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Областна администрация Пазарджик, (OA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нститут за изследвания и развитие в областта на биоресурсите за храни,  (IBA) Румъ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 (2)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Камара на търговията, параходството и селското стопанство Констанца (CCINA) Румъ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енция за развитие на Идрия и Черкно, (ICRA) Слове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Европейски парламент по хранителната верига -Foodlawment, (EEPF) Ун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на академия по хранителни технологии Одеса (ONAFT) Украй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Търговско-индустриална камара на Република Молдова (CCIRM) Република Молдов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Институт по хранителни тенологии (FINS) Сърб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Дейности по Работни пакети (Р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56800" y="2428920"/>
            <a:ext cx="76438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РП 1 “Транснационално управление на проекта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1.  Управление на проекта и финансово упр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2. Координация на проекта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81010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РП 2 “Комуникационни дейности”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2.1. Разработване, мониторинг и оценка на Комуникационен план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2. Уебсайт на проекта и база данни на партньорите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3. Дейности, насочени към студенти и изследователи;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4. Дейности, насочени към широката общественост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5. Информационни дни и заключителна конференц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3 “Анализ на политиките и стратегиите за иновации в производството на храни “</a:t>
            </a: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1. Картиране, анализ и сравнение на политики, планове и инициативи, свързани с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2. Идентифициране на ключови научни звена и оценка на технологичните нужди на  фирми от хранителния сектор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3. SWOT анализ за иновациите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3.4.  Препоръки за формулиране на политики за иновации в производството на хра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4 “Изграждане на механизми за подкрепа на иновациите в производството на храни”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- 4.1. Създаване на мрежа от заинтересовани страни и лица, отговорни за вземането на решения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2. Изготвяне на оперативни планове за научни разработки и иновации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3. Изследване на потенциала за инвестиране в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4.Изграждане на мониторингов механизъм  за проследяване и подкрепа на иновациите в производството на храни.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РП 5 “Създаване на мрежи, обучение и обмен на опит в областта на иновациите в производството на храни” </a:t>
            </a: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1 Разработване на материали за обучение; 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2. Работни семинари в областта на иновациите в производството на хран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3. Работа в мрежи и съвместни инициатив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4. Обучения на научно-изследователски кад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6:50:14Z</dcterms:created>
  <dc:creator>LenovoTP</dc:creator>
  <dc:description/>
  <dc:language>en-US</dc:language>
  <cp:lastModifiedBy>GERI</cp:lastModifiedBy>
  <dcterms:modified xsi:type="dcterms:W3CDTF">2012-05-28T07:08:14Z</dcterms:modified>
  <cp:revision>60</cp:revision>
  <dc:subject/>
  <dc:title>Slide 1</dc:title>
</cp:coreProperties>
</file>