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4A0-E121-4C18-8A03-D533BADDE48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F0A-EE71-4569-8D83-54BDBE96A1B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5BA-B0FE-4068-B6F2-347EF166976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B7B-5985-4C67-A01A-1CA72A295BC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61D-696C-4592-B9DF-25100245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E83-5FF2-4D35-9992-BCE6D20F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07B-8743-4B94-A37C-860CB1B0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DC1-A553-4200-B184-171AB5BE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1D4-0C8D-41F6-A158-00FCCF7C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0F15-65E5-46D9-A5FC-5336838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8AE-160D-4D68-9783-D2A5AA9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08E2-6FC7-403F-8A37-2D1EBEAF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6040-4392-454F-B1FA-AD937EB5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26A6-D66B-4D4F-B2B5-97327EB5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A26F-AAC8-4C96-B1DA-BE148156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500-5003-4E61-B34C-A88200E9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08BE-3A65-4561-9941-1274E46C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7FD-D28F-4DCE-BEF5-B42125E9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4A8A-F33C-42E7-85E7-09F8F2A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1AB5-1F31-4FF1-9590-2E10EA18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64D6-73B4-4974-8CB7-D3EA056D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44C-8E5F-4E7A-95CB-54B19E3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DBA-F162-491E-AA32-D5DD858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2F2-E499-4E4E-AE5B-A511077B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13C-9754-4CD8-89F1-E69BA1C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E99-E4FF-4B86-AB95-6561B72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2AF-24B9-4F9D-86DC-D4300DCC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90D-954F-43E6-89AB-2F251C1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5453-A5DE-40EE-B722-CD566ED13B21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9EB0-63E5-4984-9D6E-625479ECDA0E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50840" y="1275840"/>
            <a:ext cx="739800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3366"/>
                </a:solidFill>
                <a:latin typeface="Arial"/>
              </a:rPr>
              <a:t>Повишаване на качеството и безопасностт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3366"/>
                </a:solidFill>
                <a:latin typeface="Arial"/>
              </a:rPr>
              <a:t>на храните и нови тенденции вхранителните технологи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278100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bg-BG" sz="2000" spc="-1" strike="noStrike">
                <a:solidFill>
                  <a:srgbClr val="33cccc"/>
                </a:solidFill>
                <a:latin typeface="Arial"/>
              </a:rPr>
              <a:t>По проект “InnoFOOD SEE”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финансиран по програма Транс-национално сътрудничество Югоизточна Европ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6666"/>
                </a:solidFill>
                <a:latin typeface="Arial"/>
              </a:rPr>
              <a:t>Ивайло Мандинс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6666"/>
                </a:solidFill>
                <a:latin typeface="Arial"/>
              </a:rPr>
              <a:t>Пазарджик, 29.05.2012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3760" cy="628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164840" y="2768400"/>
            <a:ext cx="814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2987640" y="0"/>
          <a:ext cx="227664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0"/>
                    <a:ext cx="2276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9"/>
          <p:cNvSpPr/>
          <p:nvPr/>
        </p:nvSpPr>
        <p:spPr>
          <a:xfrm>
            <a:off x="4204440" y="3957120"/>
            <a:ext cx="7351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810560" y="0"/>
          <a:ext cx="133344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10560" y="0"/>
                    <a:ext cx="1333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0"/>
          <p:cNvSpPr/>
          <p:nvPr/>
        </p:nvSpPr>
        <p:spPr>
          <a:xfrm>
            <a:off x="0" y="471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56800" y="2356920"/>
            <a:ext cx="4286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3366"/>
                </a:solidFill>
                <a:latin typeface="Arial"/>
              </a:rPr>
              <a:t>Биотехнологи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7" descr="http://t1.gstatic.com/images?q=tbn:ANd9GcS1ockWyaXArpoqfnxkatAlYw0ipuI1yZfX8_lrtP7Yx9NNyqPV"/>
          <p:cNvPicPr/>
          <p:nvPr/>
        </p:nvPicPr>
        <p:blipFill>
          <a:blip r:embed="rId1"/>
          <a:stretch/>
        </p:blipFill>
        <p:spPr>
          <a:xfrm>
            <a:off x="785880" y="3643200"/>
            <a:ext cx="3786120" cy="32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t2.gstatic.com/images?q=tbn:ANd9GcTIhivZa38nWj8KgjrgJCZ2NwCGWF5TBAcDAz26xtSkZEUBBwY"/>
          <p:cNvPicPr/>
          <p:nvPr/>
        </p:nvPicPr>
        <p:blipFill>
          <a:blip r:embed="rId2"/>
          <a:stretch/>
        </p:blipFill>
        <p:spPr>
          <a:xfrm>
            <a:off x="6929280" y="14292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http://t0.gstatic.com/images?q=tbn:ANd9GcSF3--6rYxx357Cfv1PW7aGMbBcfQK14zq4zW2sEgzCYRKSqdJWUg"/>
          <p:cNvPicPr/>
          <p:nvPr/>
        </p:nvPicPr>
        <p:blipFill>
          <a:blip r:embed="rId3"/>
          <a:stretch/>
        </p:blipFill>
        <p:spPr>
          <a:xfrm>
            <a:off x="4572000" y="3543480"/>
            <a:ext cx="138096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http://t0.gstatic.com/images?q=tbn:ANd9GcSPJuLAc9pOsIU1olK3Wx8tuJ0w0JGf1o-42OliIBQEvELQPKX_BYBLZ5rJ_Q"/>
          <p:cNvPicPr/>
          <p:nvPr/>
        </p:nvPicPr>
        <p:blipFill>
          <a:blip r:embed="rId4"/>
          <a:stretch/>
        </p:blipFill>
        <p:spPr>
          <a:xfrm>
            <a:off x="5929200" y="3714840"/>
            <a:ext cx="32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8000" y="837000"/>
            <a:ext cx="610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7160" y="2428560"/>
            <a:ext cx="71438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Автоматизация и модерно оборудван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Модернизация на автопар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Оптимизация на енергийните разх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Сертификация и внедряване на системат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CCP 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и ДП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2" descr="http://t3.gstatic.com/images?q=tbn:ANd9GcTlDmBFjLZI_2ukd7Jtt9L9slzEg2M1ddgfuD1VjzyvHTugGmfw"/>
          <p:cNvPicPr/>
          <p:nvPr/>
        </p:nvPicPr>
        <p:blipFill>
          <a:blip r:embed="rId1"/>
          <a:stretch/>
        </p:blipFill>
        <p:spPr>
          <a:xfrm>
            <a:off x="6429240" y="4948200"/>
            <a:ext cx="2714760" cy="190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3.gstatic.com/images?q=tbn:ANd9GcRMRpF-6z2Yx9xyD1GSd17dDdpMCxwjVcpounqAet5RwEbnTWoJ"/>
          <p:cNvPicPr/>
          <p:nvPr/>
        </p:nvPicPr>
        <p:blipFill>
          <a:blip r:embed="rId2"/>
          <a:stretch/>
        </p:blipFill>
        <p:spPr>
          <a:xfrm>
            <a:off x="6929280" y="0"/>
            <a:ext cx="2214720" cy="184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t2.gstatic.com/images?q=tbn:ANd9GcRiHEilAMONQ1KKCjMHUwjG3dtXl3tCwYnuO7XNsfT6nxQBx1IC"/>
          <p:cNvPicPr/>
          <p:nvPr/>
        </p:nvPicPr>
        <p:blipFill>
          <a:blip r:embed="rId3"/>
          <a:stretch/>
        </p:blipFill>
        <p:spPr>
          <a:xfrm>
            <a:off x="3643200" y="500076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t3.gstatic.com/images?q=tbn:ANd9GcSIE_itie6zO4xEvNnIpdOMBBu-wIwaLCJrTAlyohNrp0mNc3g1"/>
          <p:cNvPicPr/>
          <p:nvPr/>
        </p:nvPicPr>
        <p:blipFill>
          <a:blip r:embed="rId4"/>
          <a:stretch/>
        </p:blipFill>
        <p:spPr>
          <a:xfrm>
            <a:off x="785880" y="5010120"/>
            <a:ext cx="2786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Съвременни предизвикателства в производството на хр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граниченост на ресурсите за производство на суровини от земеделие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растване броя на населението – 2025г. 8 000 000 000 душ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еобходимост от повишаване производителността на храни с 4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еравномерно географско разпределение между благосъстояние, поземлени и технологични ресурси, и консуматорски нуж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929720" cy="4691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639440" y="277560"/>
            <a:ext cx="744084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Карта за ръста на населението в световен мащаб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66"/>
                </a:solidFill>
                <a:latin typeface="Arial"/>
              </a:rPr>
              <a:t>Решения пред съвременните предизвикателства за задоволяване на нуждите от хран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Разработване на нови технологии и иновации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Пестеливо използване на хранителните ресурси и ограничаване на консуматорство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Ограничение на консумацията чрез повишаване енергийната стойност на храни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http://t1.gstatic.com/images?q=tbn:ANd9GcSR-ep4qiYgIWbcoCFnmlnuAf6Fraujp8YuyRJLA7AGiAEWDdfxUA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56800" y="499680"/>
            <a:ext cx="773460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66"/>
                </a:solidFill>
                <a:latin typeface="Arial"/>
              </a:rPr>
              <a:t>Значение на иновациите в хранителната индустр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качеството на крайния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безопасността на хранит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производителност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енергийната ефективн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граничаване на човешкият фактор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маляване на производствените разхо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конкурентноспособност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утилизацият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Значение на високотехнологичните храни за здраве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t2.gstatic.com/images?q=tbn:ANd9GcT4b0nlRarjy2JtKPZOo8b1ZjPdR9UuFRqiJjrexINII2KpbI716Q"/>
          <p:cNvPicPr/>
          <p:nvPr/>
        </p:nvPicPr>
        <p:blipFill>
          <a:blip r:embed="rId1"/>
          <a:stretch/>
        </p:blipFill>
        <p:spPr>
          <a:xfrm>
            <a:off x="7643880" y="21420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http://t3.gstatic.com/images?q=tbn:ANd9GcTExmtJqgceuMgBC9CkRW9xee2XeX0Q8sbWubH3fJOxyff9pH4l"/>
          <p:cNvPicPr/>
          <p:nvPr/>
        </p:nvPicPr>
        <p:blipFill>
          <a:blip r:embed="rId2"/>
          <a:stretch/>
        </p:blipFill>
        <p:spPr>
          <a:xfrm>
            <a:off x="564372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http://t3.gstatic.com/images?q=tbn:ANd9GcQSEMv4zs1wt8QbWvIY7q1Ei1bUl3o3SdepTX44KgV4W-BB1kl0Jw"/>
          <p:cNvPicPr/>
          <p:nvPr/>
        </p:nvPicPr>
        <p:blipFill>
          <a:blip r:embed="rId3"/>
          <a:stretch/>
        </p:blipFill>
        <p:spPr>
          <a:xfrm>
            <a:off x="3857760" y="142920"/>
            <a:ext cx="866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Историческо развитие в производството на хр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Екстензивност на производството до началото на индустриалната револю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Зелена” революция, индустриализация и технологизация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Интензивност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Рационалност при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572160" y="428760"/>
            <a:ext cx="1928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Тенденции в съвременното производ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крупняване на производствот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Бутиково производст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Безопастност на хранит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броя на технологичните опер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маляване стойностния дял на първичната суровина спрямо стойността на крайния продук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http://t2.gstatic.com/images?q=tbn:ANd9GcS2ksiQkofgGV9UirsxgxmUucNjzYaDRO5ZYGuiMIto3MHsPygb8A"/>
          <p:cNvPicPr/>
          <p:nvPr/>
        </p:nvPicPr>
        <p:blipFill>
          <a:blip r:embed="rId1"/>
          <a:stretch/>
        </p:blipFill>
        <p:spPr>
          <a:xfrm>
            <a:off x="1143000" y="478620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4359240" y="-7318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4359240" y="-7318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http://www.regal.bg/lib/showimg.php?filename=zx250_377617.jpg"/>
          <p:cNvPicPr/>
          <p:nvPr/>
        </p:nvPicPr>
        <p:blipFill>
          <a:blip r:embed="rId2"/>
          <a:stretch/>
        </p:blipFill>
        <p:spPr>
          <a:xfrm>
            <a:off x="3786120" y="4786200"/>
            <a:ext cx="2381400" cy="192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http://t2.gstatic.com/images?q=tbn:ANd9GcRDvS9wpAIGm5vPsRTSZ4S6bVx-XHogzl99Cl5B-ZHuqMfXrglSxQ"/>
          <p:cNvPicPr/>
          <p:nvPr/>
        </p:nvPicPr>
        <p:blipFill>
          <a:blip r:embed="rId3"/>
          <a:stretch/>
        </p:blipFill>
        <p:spPr>
          <a:xfrm>
            <a:off x="6357960" y="4786200"/>
            <a:ext cx="2467080" cy="19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http://t1.gstatic.com/images?q=tbn:ANd9GcSB3P3pyBtKE0jGr7f2vw8f9YCFpae8-S60oJQfSXs3jAXxwkuY"/>
          <p:cNvPicPr/>
          <p:nvPr/>
        </p:nvPicPr>
        <p:blipFill>
          <a:blip r:embed="rId4"/>
          <a:stretch/>
        </p:blipFill>
        <p:spPr>
          <a:xfrm>
            <a:off x="6715080" y="142920"/>
            <a:ext cx="2214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Анализ на технологичното развитие в секто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технологичната ба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автопар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човешките ресурс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Психологическа нагласа за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Възможности за технологично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http://t1.gstatic.com/images?q=tbn:ANd9GcQMdvf8Jga49Ehobyax8c9CGAJ7J25GevEJmI-qVbe9ej6o2HS_"/>
          <p:cNvPicPr/>
          <p:nvPr/>
        </p:nvPicPr>
        <p:blipFill>
          <a:blip r:embed="rId1"/>
          <a:stretch/>
        </p:blipFill>
        <p:spPr>
          <a:xfrm>
            <a:off x="85716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214800" y="4896000"/>
            <a:ext cx="214308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t2.gstatic.com/images?q=tbn:ANd9GcSViMTK6o1PznE8h5SYDz-LAPzLW_ghTc46dfjhuVQPikndq2u9"/>
          <p:cNvPicPr/>
          <p:nvPr/>
        </p:nvPicPr>
        <p:blipFill>
          <a:blip r:embed="rId3"/>
          <a:stretch/>
        </p:blipFill>
        <p:spPr>
          <a:xfrm>
            <a:off x="5857920" y="4929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57160" y="2357280"/>
            <a:ext cx="763128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Биологични препарати за растителна защита в земеделието и в полза на хранителната индуст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2" descr="http://t0.gstatic.com/images?q=tbn:ANd9GcQ_IFbLAV-rRh1WzqQZbdaKRs5qezj95_ncqDpJVxJKJxXJYhZA"/>
          <p:cNvPicPr/>
          <p:nvPr/>
        </p:nvPicPr>
        <p:blipFill>
          <a:blip r:embed="rId1"/>
          <a:stretch/>
        </p:blipFill>
        <p:spPr>
          <a:xfrm>
            <a:off x="928800" y="4000680"/>
            <a:ext cx="2571480" cy="237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ANd9GcQQ5pp7N3uF1Jn5MGdmqST-lv1RQSVxuNnuwQct_Dbsj-ku-WBPuA"/>
          <p:cNvPicPr/>
          <p:nvPr/>
        </p:nvPicPr>
        <p:blipFill>
          <a:blip r:embed="rId2"/>
          <a:stretch/>
        </p:blipFill>
        <p:spPr>
          <a:xfrm>
            <a:off x="6357960" y="4000680"/>
            <a:ext cx="2562120" cy="23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t2.gstatic.com/images?q=tbn:ANd9GcRHRa1LV33HGbnZ2ZE4hMIOpr9o_fInYlyXAsrctLrKH9tatmVV"/>
          <p:cNvPicPr/>
          <p:nvPr/>
        </p:nvPicPr>
        <p:blipFill>
          <a:blip r:embed="rId3"/>
          <a:stretch/>
        </p:blipFill>
        <p:spPr>
          <a:xfrm>
            <a:off x="3643200" y="4000680"/>
            <a:ext cx="2571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0:48:07Z</dcterms:created>
  <dc:creator>Ivailo</dc:creator>
  <dc:description/>
  <dc:language>en-US</dc:language>
  <cp:lastModifiedBy>Dömsödi József</cp:lastModifiedBy>
  <dcterms:modified xsi:type="dcterms:W3CDTF">2012-06-08T09:59:39Z</dcterms:modified>
  <cp:revision>79</cp:revision>
  <dc:subject/>
  <dc:title>Повишаване на качеството и безопасносттана храните и нови тенденции вхранителните технологии </dc:title>
</cp:coreProperties>
</file>