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388440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BE34207C-CE37-4410-AD75-1355AB43FA5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58480" y="690480"/>
            <a:ext cx="454500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0A11274B-E83D-4473-83CF-470A43C1168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156B742E-52FF-4C70-B259-5792803FBDD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8CA19E40-A6A0-4DD6-9523-07E793F7817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8E08320E-4E42-4675-8F4D-42DDFFD2736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A051BAA2-A5F2-4640-AA81-CC11BC47C41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92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7280">
              <a:spcBef>
                <a:spcPts val="1250"/>
              </a:spcBef>
              <a:buClr>
                <a:srgbClr val="0000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spcBef>
                <a:spcPts val="1250"/>
              </a:spcBef>
              <a:buClr>
                <a:srgbClr val="0000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304920"/>
            <a:ext cx="8460000" cy="230040"/>
          </a:xfrm>
          <a:custGeom>
            <a:avLst/>
            <a:gdLst>
              <a:gd name="textAreaLeft" fmla="*/ 0 w 8460000"/>
              <a:gd name="textAreaRight" fmla="*/ 8460000 w 8460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329" h="145">
                <a:moveTo>
                  <a:pt x="0" y="144"/>
                </a:moveTo>
                <a:lnTo>
                  <a:pt x="0" y="0"/>
                </a:lnTo>
                <a:lnTo>
                  <a:pt x="5328" y="0"/>
                </a:lnTo>
              </a:path>
            </a:pathLst>
          </a:custGeom>
          <a:noFill/>
          <a:ln cap="rnd" w="12600">
            <a:solidFill>
              <a:srgbClr val="0000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33148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508200"/>
            <a:ext cx="892332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, внедряване на нови технологии и сътрудничество с научно изследователските организации, работещи в областта на храните и суровините за хранително-вкусовата промишленост </a:t>
            </a:r>
            <a:br>
              <a:rPr sz="2200"/>
            </a:br>
            <a:r>
              <a:rPr b="1" lang="bg-BG" sz="2200" spc="-1" strike="noStrike">
                <a:solidFill>
                  <a:srgbClr val="00007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838080" y="241452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П</a:t>
            </a:r>
            <a:r>
              <a:rPr b="1" lang="ru-RU" sz="1400" spc="-1" strike="noStrike">
                <a:solidFill>
                  <a:srgbClr val="000056"/>
                </a:solidFill>
                <a:latin typeface="Arial"/>
              </a:rPr>
              <a:t>роект InnoFOOD SEE „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2" descr=""/>
          <p:cNvPicPr/>
          <p:nvPr/>
        </p:nvPicPr>
        <p:blipFill>
          <a:blip r:embed="rId1"/>
          <a:stretch/>
        </p:blipFill>
        <p:spPr>
          <a:xfrm>
            <a:off x="406440" y="330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"/>
          <p:cNvPicPr/>
          <p:nvPr/>
        </p:nvPicPr>
        <p:blipFill>
          <a:blip r:embed="rId2"/>
          <a:stretch/>
        </p:blipFill>
        <p:spPr>
          <a:xfrm>
            <a:off x="3073320" y="345960"/>
            <a:ext cx="2641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"/>
          <p:cNvPicPr/>
          <p:nvPr/>
        </p:nvPicPr>
        <p:blipFill>
          <a:blip r:embed="rId3"/>
          <a:stretch/>
        </p:blipFill>
        <p:spPr>
          <a:xfrm>
            <a:off x="6762600" y="325440"/>
            <a:ext cx="217188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"/>
          <p:cNvPicPr/>
          <p:nvPr/>
        </p:nvPicPr>
        <p:blipFill>
          <a:blip r:embed="rId4"/>
          <a:stretch/>
        </p:blipFill>
        <p:spPr>
          <a:xfrm>
            <a:off x="3068640" y="1301760"/>
            <a:ext cx="2646360" cy="797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8"/>
          <p:cNvSpPr/>
          <p:nvPr/>
        </p:nvSpPr>
        <p:spPr>
          <a:xfrm>
            <a:off x="901800" y="6005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56"/>
                </a:solidFill>
                <a:latin typeface="Arial"/>
              </a:rPr>
              <a:t>29 май 2012 г., гр. Пазарджи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968480" y="5537160"/>
            <a:ext cx="546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Евгений Иванов, Експерт проекти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– възможности за развитие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30120" y="1193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овече продукти с добавена стой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ево осъвременяване на резултатите от изследванията и разработк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прекъснати усилия за иновации в МСП (вкл. проблеми при продажбите на едро и дребно) и укрепването на международното измер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-добър пазарен достъп до трети ст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маляване на административната теже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е на законодателството и опростяване на законодателната рамка в областта на храните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циативи в областта на новаторските храни и етикетирането на х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39060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 на фирми от ХВП</a:t>
            </a:r>
            <a:endParaRPr b="1" lang="en-US" sz="24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2" name="Rectangle 147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99" descr=""/>
          <p:cNvPicPr/>
          <p:nvPr/>
        </p:nvPicPr>
        <p:blipFill>
          <a:blip r:embed="rId1"/>
          <a:stretch/>
        </p:blipFill>
        <p:spPr>
          <a:xfrm>
            <a:off x="101520" y="1206360"/>
            <a:ext cx="8940960" cy="5588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3"/>
          <p:cNvSpPr/>
          <p:nvPr/>
        </p:nvSpPr>
        <p:spPr>
          <a:xfrm>
            <a:off x="4216320" y="812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ttp://cordis.europa.eu/fp7/home_en.ht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19040" y="322200"/>
            <a:ext cx="87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Конкурентноспособност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28760" y="1054080"/>
            <a:ext cx="849924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радиционно не финансира предприятия в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Сектор C, по-конкретно код 10 „Производство на хранителни продукти” и код 11 „Производство на напитки” съгласно Класификацията на икономическите дейности от 2008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работване на иновации от стартиращи предприятия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внедряване в производство на иновативни продукти, процеси и предоставяне на иновативни услуги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криване на международно признати стандарти и въвеждане на системи за управление в предприятията” – приключила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Инвестиции в „зелена индустрия”” – приключила на 15 февруар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одкрепа за научноизследователската и развойна дейност на българските предприятия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раен срок 8 юни 2012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не е допустима за фирми в Сектор С, код 10 и 11 от КИД-2008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развитието на клъстерите в България” – отворена без краен срок за кандидатства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"Енергийна ефективност и зелена икономика“ за МСП – предстои отваря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Развитие на човешките ресурси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50920" y="169380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Квалификационни услуги и обучения за заети лица” – фаза 3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Краен срок: 31.05.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d0d0d"/>
                </a:solidFill>
                <a:uFillTx/>
                <a:latin typeface="Arial"/>
              </a:rPr>
              <a:t>Очаквани грантови схеми до края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Безопасен труд”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Без граници – Компонент 1”, по Приоритетна ос 7: Транснационално и междурегионално сътрудничество – за БКО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Програма за развитие на селските район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82760" y="1163520"/>
            <a:ext cx="79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Мярка 123 „Добавяне на стойност към земеделски и горски продукти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55680" y="1976040"/>
            <a:ext cx="805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рката има за цел п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ване на цялостната дейност, икономическата ефективност и конкурентоспособността на предприятия от хранително-преработвателната и горската промишлености чрез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-добро използване на факторите за производство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ъвеждане на нови  продукти, процеси и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добряване на качеството и безопасността на храните и тяхната проследяемос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игане на съответствие със стандартите на Общ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обряване опазването на околната сре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84280" y="4910040"/>
            <a:ext cx="79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Период на прием: 4 - 22 юн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73"/>
                </a:solidFill>
                <a:latin typeface="Arial"/>
              </a:rPr>
              <a:t>За контакти: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74840" y="1590840"/>
            <a:ext cx="81104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гений Ивано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Генерален мениджър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роконсултантс България С.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 АД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л. “Цар Асен” 2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оф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е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 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987 53 06, 988 50 2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Факс: (02) 987 48 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bg@euroconsultants.com.gr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www.euroconsult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66840"/>
            <a:ext cx="83818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ефиниция на иновац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44720"/>
            <a:ext cx="558792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е новост, т.е. нещо, което притежава качествено различна степен на усъвършенстване спрямо свое предходно положение или е нещо ново - нововъведение, новооткритие, което досега не е съществувало във времето и пространствот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има значителна позитивна стойност, което означава, че за да е налице иновация, не е достатъчно само да се създаде нещо ново, но то трябва да предизвиква силен позитивен ефект в сравнение с предходни подобни творения от същият клас и вид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що повече, този позитивен ефект трябва да се постига с минимални разходи или поне съотношението позитивен ефект към разходи да бъде многократно в полза на ефек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E:\Euroconsultants\Calls for proposals\335_Inno Food SEE\Info Day May 2012\Rubik.jpg"/>
          <p:cNvPicPr/>
          <p:nvPr/>
        </p:nvPicPr>
        <p:blipFill>
          <a:blip r:embed="rId1"/>
          <a:stretch/>
        </p:blipFill>
        <p:spPr>
          <a:xfrm>
            <a:off x="5846760" y="4788000"/>
            <a:ext cx="3297240" cy="20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DSC_1318"/>
          <p:cNvPicPr/>
          <p:nvPr/>
        </p:nvPicPr>
        <p:blipFill>
          <a:blip r:embed="rId2"/>
          <a:stretch/>
        </p:blipFill>
        <p:spPr>
          <a:xfrm>
            <a:off x="6019920" y="31284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6 soorten"/>
          <p:cNvPicPr/>
          <p:nvPr/>
        </p:nvPicPr>
        <p:blipFill>
          <a:blip r:embed="rId3"/>
          <a:stretch/>
        </p:blipFill>
        <p:spPr>
          <a:xfrm>
            <a:off x="5985000" y="2743200"/>
            <a:ext cx="3159000" cy="18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355320"/>
            <a:ext cx="8382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Видове иноваци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6960" y="1089000"/>
            <a:ext cx="8361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олог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телектуал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Хуманитар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Организацион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оциални иновации като съвкупност от няколко подгрупи - социо-политически, социо-икономически, социо-културни и друг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90440" y="4245840"/>
            <a:ext cx="895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поред </a:t>
            </a:r>
            <a:r>
              <a:rPr b="1" lang="bg-BG" sz="2200" spc="-1" strike="noStrike" u="sng">
                <a:solidFill>
                  <a:srgbClr val="0d0d0d"/>
                </a:solidFill>
                <a:uFillTx/>
                <a:latin typeface="Arial"/>
              </a:rPr>
              <a:t>степента на новаторството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, което носят, иновациите биват два основни типа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крементални иновации - усъвършенстване на нещо съществуващо, т.е. относително ниска степен на иновативнос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Радикални иновации - висока степен на иновативност, създава се нещо, което не е съществувало в предходен период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381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8760" y="1155600"/>
            <a:ext cx="82580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сновният документ, ръководещ общата икономическа политика на ЕС, е Лисабонската стратегия, приета през 2000 г. Нейната мисия е да превърне ЕС в най-динамичната икономика, основана на знанието, в света до 2010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й-важният инструмент за осъществяването на тази мисия, превърнал се в нейна своеобразна марка, е повишаването на инвестициите в изследователска и развойна дейност в ЕС средно до 3% от БВП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2005 г. ЕС направи преглед на изпълнението на стратегията и установи, че напредъкът е незадоволителе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есента на 2006 г. Европейската комисия представи първата по рода си за ЕС иновационна стратегия, чиято основна цел е да насърчи превръщането на инвестициите в изследователска и развойна дейност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в пазарни продукти и услуг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 резултат Европейската комисия предложи редица политики и мерки за подобряване на иновационната активност в ЕС, чието изпълнение беше включено в новия седемгодишен бюджетен цикъл на Общността за периода 2007-2013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353520"/>
            <a:ext cx="80377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96920" y="1139760"/>
            <a:ext cx="8451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В Европа, Швейцария е на първо място по иновации, следвана от Швеция, Финландия, Германия, Дания и Великобритан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За последните пет години ЕС е постигнал голям напредък, като въпреки че той все още изостава от САЩ и Япония, разликата намаляв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езултатите на ЕС са сравнително по-добри спрямо тези на развиващи се икономики като Китай, Индия и Бразилия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ЕС изостава от САЩ в бизнес инвестициите, а от Япония - във въвеждането на иновации в научно-изследователската и развойна дейност и информационните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омпаниите от ЕС също така харчат по-малко за нетехнологични иновации като обучение, дизайн и маркетинг, а всички те са важни за поддържане на конкурентоспособ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ходите за научно-изследователска и развойна дейност в ЕС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2008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са на ниво от 1,84% от БВП - много под целта на ЕС от 3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353520"/>
            <a:ext cx="8677440" cy="8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оклад за иновациите и конкурентоспособността 2007, Европейска комис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61800" y="1279440"/>
            <a:ext cx="84805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Категоризация на наблюдаваните страни според показателите на иновационната им дейност спрямо средния показател за ЕС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новационни лидери (Швейцария, Финландия, Швеция, Дания, Герман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, Великобритан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редно равнище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Австрия, Ирландия, Люксембург, Белгия, Франция и Холанд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огон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Кипър, Исландия, Естония, Словения, Чешката република, Норвегия, Испания, Португалия, Гърция и Итал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зоста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Малта, Унгария, Словакия, Полша, Литва, Хърватия, Румъния, Латвия, </a:t>
            </a:r>
            <a:r>
              <a:rPr b="0" lang="bg-BG" sz="1600" spc="-1" strike="noStrike" u="sng">
                <a:solidFill>
                  <a:srgbClr val="0d0d0d"/>
                </a:solidFill>
                <a:uFillTx/>
                <a:latin typeface="Arial"/>
              </a:rPr>
              <a:t>Българ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 и Турц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innovation-index_corected"/>
          <p:cNvPicPr/>
          <p:nvPr/>
        </p:nvPicPr>
        <p:blipFill>
          <a:blip r:embed="rId1"/>
          <a:stretch/>
        </p:blipFill>
        <p:spPr>
          <a:xfrm>
            <a:off x="2197080" y="3816360"/>
            <a:ext cx="5533920" cy="299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Ситуацията в Европа  - сега и след кризата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66760" y="1308240"/>
            <a:ext cx="86742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структуриране на икономиката и следване на световните тенден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вестиране в човешки капи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тегриране в ефективни “мрежи” на производството и науката и ускоряване на технологичното обновление в индустрията, транспорта и селското стопанст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крепа на някои особено важни инициативи, като например “Регионите на знанието” като база за ускорено въвеждане на иновации  в национален, регионален и трансграничен аспек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95360" y="1333440"/>
            <a:ext cx="777240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облеми - силно конюнктурна бизнес среда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оки с високи це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граничения на достъпа до ключови сурови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обходимост от разработване на нова външнотърговска политика относно достъпа до пазар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9800" y="3517920"/>
            <a:ext cx="833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дизвикателствата пред тази индустрия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иска производителност на тру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стоянен недостиг на нововъвед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менящи се потребителски предпочит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ормативната уредба, разработена през последните години в отговор на безпокойствата на потребителите, свързани със здравето и околната сред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личие на много микро- и малки предприятия, силно зависими от пазарните промени и флуктуациите в цен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0" y="2943360"/>
            <a:ext cx="546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68280" y="16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оложителни тенденци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Хармонизирано законодателство на ЕС относно храните продължава да допринася за тяхната безопасност и доверие на потребителите, както и за развитието на селскостопанския и хранително-вкус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 в Съюза и в Българ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ът се повлия най-слабо от процесите на финансовата и икономическата криз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можност за недопускане на ГМО и запазване автентичния характер на българските хранителни продукти за Европейските и световните паза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1:12:30Z</dcterms:created>
  <dc:creator>Eugeniy Ivanov</dc:creator>
  <dc:description/>
  <dc:language>en-US</dc:language>
  <cp:lastModifiedBy>GERI</cp:lastModifiedBy>
  <cp:lastPrinted>2000-11-24T18:53:59Z</cp:lastPrinted>
  <dcterms:modified xsi:type="dcterms:W3CDTF">2012-05-28T14:55:45Z</dcterms:modified>
  <cp:revision>705</cp:revision>
  <dc:subject/>
  <dc:title>Investment Strategy</dc:title>
</cp:coreProperties>
</file>